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578FE-9088-4941-98B7-DD871B7C9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92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61760" y="4010760"/>
            <a:ext cx="792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13AF6-0A4D-4D65-BD2B-6B6ACDB67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22560" y="198072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761760" y="401076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22560" y="401076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B50A7-1FFF-4D1C-903A-6E5F2199F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41240" y="198072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21080" y="198072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761760" y="401076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441240" y="401076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21080" y="401076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6A95D-D220-49EC-BC31-82B38F75D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65596-BE39-45D4-A987-508A55E9C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76176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113B2-28A6-4547-AAB3-A3428B281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9D7DA-6678-4D2D-9CDA-EF7DF03D9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22560" y="198072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1B72E-A3A5-4660-8867-6B3919438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F7561-5529-492C-B175-E88587D65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440" y="838080"/>
            <a:ext cx="80010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60163-2422-4034-B430-D3C079A27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2560" y="198072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61760" y="401076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13A19-E4AF-432A-9BB5-4C08134E2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76176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FE13F-68CC-4459-B8A6-4BAC78ABD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2560" y="198072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822560" y="401076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A46A6-EB46-4BC6-BE21-CD24BA88F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22560" y="198072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761760" y="4010760"/>
            <a:ext cx="792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940EF-D2F4-471D-B071-A97D878B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92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761760" y="4010760"/>
            <a:ext cx="792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0A373-1626-4078-B922-3E7D5B9C8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22560" y="198072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761760" y="401076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822560" y="401076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66B53-78FB-4D2C-9193-DA92A027F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41240" y="198072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21080" y="198072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761760" y="401076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441240" y="401076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121080" y="401076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9738E-AEFB-4201-99E2-B342E3210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5D8D5-1183-41C8-A1E0-142BFF379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22560" y="198072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05141-B09D-4540-95C2-C4A1F6217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A0076-9103-453E-82F0-65C22C084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440" y="838080"/>
            <a:ext cx="80010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04380-197F-4206-A13E-0A10BBFCF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22560" y="198072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1760" y="401076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2349A-7133-4279-8241-B843B21E0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22560" y="198072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22560" y="401076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88E24-1D07-4E58-A9B5-2E9BBDE6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22560" y="198072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1760" y="4010760"/>
            <a:ext cx="792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DBAE2-6905-4DAC-A653-330E54425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F3BB5-0EB6-46F0-A786-B2E79AEC47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304920" y="304920"/>
            <a:ext cx="8229240" cy="456840"/>
            <a:chOff x="304920" y="304920"/>
            <a:chExt cx="8229240" cy="456840"/>
          </a:xfrm>
        </p:grpSpPr>
        <p:sp>
          <p:nvSpPr>
            <p:cNvPr id="3" name=""/>
            <p:cNvSpPr/>
            <p:nvPr/>
          </p:nvSpPr>
          <p:spPr>
            <a:xfrm>
              <a:off x="304920" y="304920"/>
              <a:ext cx="257040" cy="446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76440" y="417600"/>
              <a:ext cx="7857720" cy="229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73560" y="417600"/>
              <a:ext cx="123840" cy="11808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97400" y="304920"/>
              <a:ext cx="125640" cy="1155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97400" y="417600"/>
              <a:ext cx="125640" cy="11808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51880" y="534600"/>
              <a:ext cx="122760" cy="1155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23360" y="419040"/>
              <a:ext cx="126720" cy="1155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73560" y="532080"/>
              <a:ext cx="123840" cy="1155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51880" y="647640"/>
              <a:ext cx="122760" cy="114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76176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380880" y="380880"/>
            <a:ext cx="8381880" cy="6172200"/>
            <a:chOff x="380880" y="380880"/>
            <a:chExt cx="8381880" cy="6172200"/>
          </a:xfrm>
        </p:grpSpPr>
        <p:sp>
          <p:nvSpPr>
            <p:cNvPr id="52" name=""/>
            <p:cNvSpPr/>
            <p:nvPr/>
          </p:nvSpPr>
          <p:spPr>
            <a:xfrm>
              <a:off x="380880" y="380880"/>
              <a:ext cx="3213000" cy="6172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953720" y="1902240"/>
              <a:ext cx="6809040" cy="2280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380880" y="1340640"/>
              <a:ext cx="2627640" cy="2841120"/>
              <a:chOff x="380880" y="1340640"/>
              <a:chExt cx="2627640" cy="2841120"/>
            </a:xfrm>
          </p:grpSpPr>
          <p:sp>
            <p:nvSpPr>
              <p:cNvPr id="55" name=""/>
              <p:cNvSpPr/>
              <p:nvPr/>
            </p:nvSpPr>
            <p:spPr>
              <a:xfrm>
                <a:off x="906120" y="3605040"/>
                <a:ext cx="528120" cy="5767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953720" y="1901880"/>
                <a:ext cx="526320" cy="5785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471760" y="1340640"/>
                <a:ext cx="536760" cy="5713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427040" y="3605040"/>
                <a:ext cx="534960" cy="5767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471760" y="1901880"/>
                <a:ext cx="536760" cy="5785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427040" y="2472120"/>
                <a:ext cx="534960" cy="5695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80880" y="2472120"/>
                <a:ext cx="533880" cy="5695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953720" y="2472120"/>
                <a:ext cx="526320" cy="5695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906120" y="3033360"/>
                <a:ext cx="528120" cy="5796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427040" y="3033360"/>
                <a:ext cx="534960" cy="5796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051D3-06E2-4A18-89BF-F36D441C87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5943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5943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al-Time Logic – a brief introdu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601120" y="6172200"/>
            <a:ext cx="542880" cy="6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Example (1/3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733920" y="1980720"/>
            <a:ext cx="4952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tical, redundant control for nuclear reactor (two control rod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ubsystem starts moving the rod within 5 time units from manager gr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ing completed in 20 time uni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eedback on the manager; it must wait at least 30 time units before granting another reque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2844720" cy="4875120"/>
          </a:xfrm>
          <a:prstGeom prst="rect">
            <a:avLst/>
          </a:prstGeom>
          <a:ln w="0">
            <a:noFill/>
          </a:ln>
        </p:spPr>
      </p:pic>
      <p:grpSp>
        <p:nvGrpSpPr>
          <p:cNvPr id="264" name=""/>
          <p:cNvGrpSpPr/>
          <p:nvPr/>
        </p:nvGrpSpPr>
        <p:grpSpPr>
          <a:xfrm>
            <a:off x="0" y="6629400"/>
            <a:ext cx="9144000" cy="228600"/>
            <a:chOff x="0" y="6629400"/>
            <a:chExt cx="9144000" cy="228600"/>
          </a:xfrm>
        </p:grpSpPr>
        <p:sp>
          <p:nvSpPr>
            <p:cNvPr id="265" name="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TL – a brief introduction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6" name="" descr=""/>
            <p:cNvPicPr/>
            <p:nvPr/>
          </p:nvPicPr>
          <p:blipFill>
            <a:blip r:embed="rId2"/>
            <a:stretch/>
          </p:blipFill>
          <p:spPr>
            <a:xfrm>
              <a:off x="8962920" y="6629400"/>
              <a:ext cx="181080" cy="228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Example (2/3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ystem 1 (subsystem 2 is equivalent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914400" y="3048120"/>
            <a:ext cx="6553080" cy="116820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914400" y="4191120"/>
            <a:ext cx="7467480" cy="995400"/>
          </a:xfrm>
          <a:prstGeom prst="rect">
            <a:avLst/>
          </a:prstGeom>
          <a:ln w="0">
            <a:noFill/>
          </a:ln>
        </p:spPr>
      </p:pic>
      <p:grpSp>
        <p:nvGrpSpPr>
          <p:cNvPr id="271" name=""/>
          <p:cNvGrpSpPr/>
          <p:nvPr/>
        </p:nvGrpSpPr>
        <p:grpSpPr>
          <a:xfrm>
            <a:off x="0" y="6629400"/>
            <a:ext cx="9144000" cy="228600"/>
            <a:chOff x="0" y="6629400"/>
            <a:chExt cx="9144000" cy="228600"/>
          </a:xfrm>
        </p:grpSpPr>
        <p:sp>
          <p:nvSpPr>
            <p:cNvPr id="272" name="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TL – a brief introduction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3" name="" descr=""/>
            <p:cNvPicPr/>
            <p:nvPr/>
          </p:nvPicPr>
          <p:blipFill>
            <a:blip r:embed="rId3"/>
            <a:stretch/>
          </p:blipFill>
          <p:spPr>
            <a:xfrm>
              <a:off x="8962920" y="6629400"/>
              <a:ext cx="181080" cy="228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4" name=""/>
          <p:cNvSpPr/>
          <p:nvPr/>
        </p:nvSpPr>
        <p:spPr>
          <a:xfrm>
            <a:off x="762120" y="2362320"/>
            <a:ext cx="1447560" cy="3045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ton1 pre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676520" y="26668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419720" y="2362320"/>
            <a:ext cx="1904760" cy="3045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request to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5410080" y="2666880"/>
            <a:ext cx="1526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934320" y="3429000"/>
            <a:ext cx="190476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nt by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5790960" y="365760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Example (3/3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1066680" y="2438280"/>
            <a:ext cx="7086600" cy="2354400"/>
          </a:xfrm>
          <a:prstGeom prst="rect">
            <a:avLst/>
          </a:prstGeom>
          <a:ln w="0">
            <a:noFill/>
          </a:ln>
        </p:spPr>
      </p:pic>
      <p:grpSp>
        <p:nvGrpSpPr>
          <p:cNvPr id="283" name=""/>
          <p:cNvGrpSpPr/>
          <p:nvPr/>
        </p:nvGrpSpPr>
        <p:grpSpPr>
          <a:xfrm>
            <a:off x="0" y="6629400"/>
            <a:ext cx="9144000" cy="228600"/>
            <a:chOff x="0" y="6629400"/>
            <a:chExt cx="9144000" cy="228600"/>
          </a:xfrm>
        </p:grpSpPr>
        <p:sp>
          <p:nvSpPr>
            <p:cNvPr id="284" name="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TL – a brief introduction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5" name="" descr=""/>
            <p:cNvPicPr/>
            <p:nvPr/>
          </p:nvPicPr>
          <p:blipFill>
            <a:blip r:embed="rId2"/>
            <a:stretch/>
          </p:blipFill>
          <p:spPr>
            <a:xfrm>
              <a:off x="8962920" y="6629400"/>
              <a:ext cx="181080" cy="228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Example: safety property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can use the specification to check if interesting properties hol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the two rods must not be moving simultaneous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property can be proved true with a 25-nodes inference tre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1600200" y="2743200"/>
            <a:ext cx="5562720" cy="1014480"/>
          </a:xfrm>
          <a:prstGeom prst="rect">
            <a:avLst/>
          </a:prstGeom>
          <a:ln w="0">
            <a:noFill/>
          </a:ln>
        </p:spPr>
      </p:pic>
      <p:grpSp>
        <p:nvGrpSpPr>
          <p:cNvPr id="289" name=""/>
          <p:cNvGrpSpPr/>
          <p:nvPr/>
        </p:nvGrpSpPr>
        <p:grpSpPr>
          <a:xfrm>
            <a:off x="0" y="6629400"/>
            <a:ext cx="9144000" cy="228600"/>
            <a:chOff x="0" y="6629400"/>
            <a:chExt cx="9144000" cy="228600"/>
          </a:xfrm>
        </p:grpSpPr>
        <p:sp>
          <p:nvSpPr>
            <p:cNvPr id="290" name="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TL – a brief introduction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1" name="" descr=""/>
            <p:cNvPicPr/>
            <p:nvPr/>
          </p:nvPicPr>
          <p:blipFill>
            <a:blip r:embed="rId2"/>
            <a:stretch/>
          </p:blipFill>
          <p:spPr>
            <a:xfrm>
              <a:off x="8962920" y="6629400"/>
              <a:ext cx="181080" cy="228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Some theoretical result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an be proven that general RTL is undecidable (reduction to a two counter machin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dable subset exists: conjunctions of formulas                                    , where       is a quantifier (           ) and      is of form: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practice, a decision algorithm is provided for specification expressed in Modecha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0" y="6629400"/>
            <a:ext cx="9144000" cy="228600"/>
            <a:chOff x="0" y="6629400"/>
            <a:chExt cx="9144000" cy="228600"/>
          </a:xfrm>
        </p:grpSpPr>
        <p:sp>
          <p:nvSpPr>
            <p:cNvPr id="295" name="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TL – a brief introduction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6" name="" descr=""/>
            <p:cNvPicPr/>
            <p:nvPr/>
          </p:nvPicPr>
          <p:blipFill>
            <a:blip r:embed="rId1"/>
            <a:stretch/>
          </p:blipFill>
          <p:spPr>
            <a:xfrm>
              <a:off x="8962920" y="6629400"/>
              <a:ext cx="181080" cy="22860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6248520" y="2590920"/>
                <a:ext cx="210348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∨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∨</m:t>
                    </m:r>
                    <m:r>
                      <m:t xml:space="preserve">…</m:t>
                    </m:r>
                    <m:r>
                      <m:t xml:space="preserve">∨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1905120" y="2895480"/>
                <a:ext cx="24912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3886200" y="2895480"/>
                <a:ext cx="45720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,</m:t>
                    </m:r>
                    <m:r>
                      <m:t xml:space="preserve">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5010120" y="2865600"/>
                <a:ext cx="2905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1295280" y="3276720"/>
                <a:ext cx="291636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@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@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Modechart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581280" y="1980720"/>
            <a:ext cx="5105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ed since ‘88 as a practical specification tool built on top of RT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nds hierarchical statecharts with timing constrai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: the classic railroad-crossing probl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 constraint: (r,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: transition delay (minimum time before transi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: transition deadline (max time to transi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be trivially converted in a RTL specif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fety requiremen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3056040" cy="5029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3886200" y="4876920"/>
                <a:ext cx="4395960" cy="37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@</m:t>
                    </m:r>
                    <m:r>
                      <m:t xml:space="preserve">(</m:t>
                    </m:r>
                    <m:r>
                      <m:t xml:space="preserve">↑</m:t>
                    </m:r>
                    <m:r>
                      <m:rPr>
                        <m:lit/>
                        <m:nor/>
                      </m:rPr>
                      <m:t xml:space="preserve">DOWN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@</m:t>
                    </m:r>
                    <m:r>
                      <m:t xml:space="preserve">(</m:t>
                    </m:r>
                    <m:r>
                      <m:t xml:space="preserve">↑</m:t>
                    </m:r>
                    <m:r>
                      <m:rPr>
                        <m:lit/>
                        <m:nor/>
                      </m:rPr>
                      <m:t xml:space="preserve">CROSSING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4572000" y="5257800"/>
                <a:ext cx="393696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@</m:t>
                    </m:r>
                    <m:r>
                      <m:t xml:space="preserve">(</m:t>
                    </m:r>
                    <m:r>
                      <m:t xml:space="preserve">↓</m:t>
                    </m:r>
                    <m:r>
                      <m:rPr>
                        <m:lit/>
                        <m:nor/>
                      </m:rPr>
                      <m:t xml:space="preserve">CROSSING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@</m:t>
                    </m:r>
                    <m:r>
                      <m:t xml:space="preserve">(</m:t>
                    </m:r>
                    <m:r>
                      <m:t xml:space="preserve">↓</m:t>
                    </m:r>
                    <m:r>
                      <m:rPr>
                        <m:lit/>
                        <m:nor/>
                      </m:rPr>
                      <m:t xml:space="preserve">DOWN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07" name=""/>
          <p:cNvGrpSpPr/>
          <p:nvPr/>
        </p:nvGrpSpPr>
        <p:grpSpPr>
          <a:xfrm>
            <a:off x="0" y="6629400"/>
            <a:ext cx="9144000" cy="228600"/>
            <a:chOff x="0" y="6629400"/>
            <a:chExt cx="9144000" cy="228600"/>
          </a:xfrm>
        </p:grpSpPr>
        <p:sp>
          <p:nvSpPr>
            <p:cNvPr id="308" name="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TL – a brief introduction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9" name="" descr=""/>
            <p:cNvPicPr/>
            <p:nvPr/>
          </p:nvPicPr>
          <p:blipFill>
            <a:blip r:embed="rId2"/>
            <a:stretch/>
          </p:blipFill>
          <p:spPr>
            <a:xfrm>
              <a:off x="8962920" y="6629400"/>
              <a:ext cx="181080" cy="228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Model checking on Modechart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icit-state model checking is possible on Modechart-generated RTL specifi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 ide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 a finite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mputation grap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rom the Modechart specif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eck properties expressed in decidable RTL by model checking the computation graph (several subclasses of RTL supported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: building the comp. graph as a simple state reachability graph is not enough – a state may be unreachable due to timing constrai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: annotate each node in the comp. graph with a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vent s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a set of timing constrai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nodes in the graph are isomorphic iff they share the same state, event set and 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istance equival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ndition hol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always possible to obtain a finite comp. grap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0" y="6629400"/>
            <a:ext cx="9144000" cy="228600"/>
            <a:chOff x="0" y="6629400"/>
            <a:chExt cx="9144000" cy="228600"/>
          </a:xfrm>
        </p:grpSpPr>
        <p:sp>
          <p:nvSpPr>
            <p:cNvPr id="313" name="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TL – a brief introduction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4" name="" descr=""/>
            <p:cNvPicPr/>
            <p:nvPr/>
          </p:nvPicPr>
          <p:blipFill>
            <a:blip r:embed="rId1"/>
            <a:stretch/>
          </p:blipFill>
          <p:spPr>
            <a:xfrm>
              <a:off x="8962920" y="6629400"/>
              <a:ext cx="181080" cy="228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Example: comp. graph for railroad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1600200" y="1676520"/>
            <a:ext cx="5486400" cy="4779720"/>
          </a:xfrm>
          <a:prstGeom prst="rect">
            <a:avLst/>
          </a:prstGeom>
          <a:ln w="0">
            <a:noFill/>
          </a:ln>
        </p:spPr>
      </p:pic>
      <p:grpSp>
        <p:nvGrpSpPr>
          <p:cNvPr id="317" name=""/>
          <p:cNvGrpSpPr/>
          <p:nvPr/>
        </p:nvGrpSpPr>
        <p:grpSpPr>
          <a:xfrm>
            <a:off x="0" y="6629400"/>
            <a:ext cx="9144000" cy="228600"/>
            <a:chOff x="0" y="6629400"/>
            <a:chExt cx="9144000" cy="228600"/>
          </a:xfrm>
        </p:grpSpPr>
        <p:sp>
          <p:nvSpPr>
            <p:cNvPr id="318" name="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TL – a brief introduction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9" name="" descr=""/>
            <p:cNvPicPr/>
            <p:nvPr/>
          </p:nvPicPr>
          <p:blipFill>
            <a:blip r:embed="rId2"/>
            <a:stretch/>
          </p:blipFill>
          <p:spPr>
            <a:xfrm>
              <a:off x="8962920" y="6629400"/>
              <a:ext cx="181080" cy="228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Some remarks (1/2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 checking Modecharts is computationally expensive in both time &amp;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 a subgraph of timing constraints to derive information for each node in the comp. grap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he distance equivalence is not satisfied we can get a state explo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symbolic modelcheck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 when considering a reduced decidable subset RTL is fairly powerful, bu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perform efficient model checking we need to add further restriction. Ex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 properties are not amenable to be expressed in RTL. Ex: sums of execution tim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1600200" y="4648320"/>
            <a:ext cx="4038480" cy="533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1523880" y="5791320"/>
                <a:ext cx="49896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j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@</m:t>
                        </m:r>
                        <m:r>
                          <m:t xml:space="preserve">(</m:t>
                        </m:r>
                        <m:r>
                          <m:t xml:space="preserve">↑</m:t>
                        </m:r>
                        <m:r>
                          <m:rPr>
                            <m:lit/>
                            <m:nor/>
                          </m:rPr>
                          <m:t xml:space="preserve">exec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≥</m:t>
                        </m:r>
                        <m:r>
                          <m:t xml:space="preserve">@</m:t>
                        </m:r>
                        <m:r>
                          <m:t xml:space="preserve">(</m:t>
                        </m:r>
                        <m:r>
                          <m:t xml:space="preserve">↑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t xml:space="preserve">@</m:t>
                        </m:r>
                        <m:r>
                          <m:t xml:space="preserve">(</m:t>
                        </m:r>
                        <m:r>
                          <m:t xml:space="preserve">↓</m:t>
                        </m:r>
                        <m:r>
                          <m:rPr>
                            <m:lit/>
                            <m:nor/>
                          </m:rPr>
                          <m:t xml:space="preserve">exec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≤</m:t>
                        </m:r>
                        <m:r>
                          <m:t xml:space="preserve">@</m:t>
                        </m:r>
                        <m:r>
                          <m:t xml:space="preserve">(</m:t>
                        </m:r>
                        <m:r>
                          <m:t xml:space="preserve">↓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b>
                      <m:sup/>
                      <m:e>
                        <m:r>
                          <m:t xml:space="preserve">@</m:t>
                        </m:r>
                        <m:r>
                          <m:t xml:space="preserve">(</m:t>
                        </m:r>
                        <m:r>
                          <m:t xml:space="preserve">↓</m:t>
                        </m:r>
                        <m:r>
                          <m:rPr>
                            <m:lit/>
                            <m:nor/>
                          </m:rPr>
                          <m:t xml:space="preserve">exec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@</m:t>
                        </m:r>
                        <m:r>
                          <m:t xml:space="preserve">(</m:t>
                        </m:r>
                        <m:r>
                          <m:t xml:space="preserve">↑</m:t>
                        </m:r>
                        <m:r>
                          <m:rPr>
                            <m:lit/>
                            <m:nor/>
                          </m:rPr>
                          <m:t xml:space="preserve">exec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24" name=""/>
          <p:cNvGrpSpPr/>
          <p:nvPr/>
        </p:nvGrpSpPr>
        <p:grpSpPr>
          <a:xfrm>
            <a:off x="0" y="6629400"/>
            <a:ext cx="9144000" cy="228600"/>
            <a:chOff x="0" y="6629400"/>
            <a:chExt cx="9144000" cy="228600"/>
          </a:xfrm>
        </p:grpSpPr>
        <p:sp>
          <p:nvSpPr>
            <p:cNvPr id="325" name="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TL – a brief introduction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6" name="" descr=""/>
            <p:cNvPicPr/>
            <p:nvPr/>
          </p:nvPicPr>
          <p:blipFill>
            <a:blip r:embed="rId2"/>
            <a:stretch/>
          </p:blipFill>
          <p:spPr>
            <a:xfrm>
              <a:off x="8962920" y="6629400"/>
              <a:ext cx="181080" cy="228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Some remarks (2/2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sible inclusion in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onitoring Oriented Programming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ents need to be associated with absolute timing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is a reasonable RTL subset decidable for finite trac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an efficient monitor (forward reasoning) seems hard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is logic really what we want for (run-time) verification of real-time programs? Open discu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0" y="6629400"/>
            <a:ext cx="9144000" cy="228600"/>
            <a:chOff x="0" y="6629400"/>
            <a:chExt cx="9144000" cy="228600"/>
          </a:xfrm>
        </p:grpSpPr>
        <p:sp>
          <p:nvSpPr>
            <p:cNvPr id="330" name="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TL – a brief introduction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1" name="" descr=""/>
            <p:cNvPicPr/>
            <p:nvPr/>
          </p:nvPicPr>
          <p:blipFill>
            <a:blip r:embed="rId1"/>
            <a:stretch/>
          </p:blipFill>
          <p:spPr>
            <a:xfrm>
              <a:off x="8962920" y="6629400"/>
              <a:ext cx="181080" cy="228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76176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irst order logic especially designed for the specification of real-time systems; originally proposed in [Jahanian &amp; Mok, 86]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is represented explici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ogic atoms are not state predicate bu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ve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i.e. state transition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     has (possibly infinite)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ccurrenc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timing information is expressed by a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ccurrence rel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: the ith occurrence of     happens at time   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a simple real-time period task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RTL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690640" y="3986280"/>
                <a:ext cx="1875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6162840" y="3917880"/>
                <a:ext cx="95724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t xml:space="preserve">…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7269120" y="4214880"/>
                <a:ext cx="85428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497400" y="4511520"/>
                <a:ext cx="1872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5200560" y="4518000"/>
                <a:ext cx="14472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80880" y="5638680"/>
                <a:ext cx="543744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∃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TART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∧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FINISH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'</m:t>
                    </m:r>
                    <m:r>
                      <m:t xml:space="preserve">)</m:t>
                    </m:r>
                    <m:r>
                      <m:t xml:space="preserve">∧</m:t>
                    </m:r>
                    <m:r>
                      <m:t xml:space="preserve">t</m:t>
                    </m:r>
                    <m:r>
                      <m:t xml:space="preserve">'</m:t>
                    </m:r>
                    <m:r>
                      <m:t xml:space="preserve">≤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371520" y="5181480"/>
                <a:ext cx="568800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∃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TART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∧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TART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'</m:t>
                    </m:r>
                    <m:r>
                      <m:t xml:space="preserve">)</m:t>
                    </m:r>
                    <m:r>
                      <m:t xml:space="preserve">∧</m:t>
                    </m:r>
                    <m:r>
                      <m:t xml:space="preserve">t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7" name=""/>
          <p:cNvGrpSpPr/>
          <p:nvPr/>
        </p:nvGrpSpPr>
        <p:grpSpPr>
          <a:xfrm>
            <a:off x="6086160" y="4952880"/>
            <a:ext cx="2819880" cy="533520"/>
            <a:chOff x="6086160" y="4952880"/>
            <a:chExt cx="2819880" cy="533520"/>
          </a:xfrm>
        </p:grpSpPr>
        <p:sp>
          <p:nvSpPr>
            <p:cNvPr id="118" name=""/>
            <p:cNvSpPr/>
            <p:nvPr/>
          </p:nvSpPr>
          <p:spPr>
            <a:xfrm>
              <a:off x="6772320" y="4952880"/>
              <a:ext cx="2133720" cy="5335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RIOD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STRAI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6086160" y="5257800"/>
              <a:ext cx="6858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5857920" y="5715000"/>
            <a:ext cx="3048120" cy="533520"/>
            <a:chOff x="5857920" y="5715000"/>
            <a:chExt cx="3048120" cy="533520"/>
          </a:xfrm>
        </p:grpSpPr>
        <p:sp>
          <p:nvSpPr>
            <p:cNvPr id="121" name=""/>
            <p:cNvSpPr/>
            <p:nvPr/>
          </p:nvSpPr>
          <p:spPr>
            <a:xfrm>
              <a:off x="6772320" y="5715000"/>
              <a:ext cx="2133720" cy="5335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ADL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STRAI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 flipV="1">
              <a:off x="5857920" y="5867280"/>
              <a:ext cx="9144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1219320" y="304812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1932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98108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98108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74320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4320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0532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0532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26708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6708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2920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2920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55308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55308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31520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67760" y="3276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29880" y="3276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92000" y="3276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353760" y="3276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115880" y="3276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878000" y="3276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639760" y="3276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401880" y="3276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164000" y="3276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8001000" y="3200400"/>
                <a:ext cx="14436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2" name=""/>
          <p:cNvGrpSpPr/>
          <p:nvPr/>
        </p:nvGrpSpPr>
        <p:grpSpPr>
          <a:xfrm>
            <a:off x="0" y="6629400"/>
            <a:ext cx="9144000" cy="228600"/>
            <a:chOff x="0" y="6629400"/>
            <a:chExt cx="9144000" cy="228600"/>
          </a:xfrm>
        </p:grpSpPr>
        <p:sp>
          <p:nvSpPr>
            <p:cNvPr id="153" name="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TL – a brief introduction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4" name="" descr=""/>
            <p:cNvPicPr/>
            <p:nvPr/>
          </p:nvPicPr>
          <p:blipFill>
            <a:blip r:embed="rId1"/>
            <a:stretch/>
          </p:blipFill>
          <p:spPr>
            <a:xfrm>
              <a:off x="8962920" y="6629400"/>
              <a:ext cx="181080" cy="228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Syntax (1/2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a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set      of numeric constant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set      of events symbo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b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set     of time variabl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set     of occurrences variabl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o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             as syntactic suga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               as s.s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555920" y="2286000"/>
                <a:ext cx="45720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,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2117880" y="2606760"/>
                <a:ext cx="25056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4255920" y="2590920"/>
                <a:ext cx="156852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,1,2,3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</m:e>
                    </m:d>
                    <m:r>
                      <m:t xml:space="preserve">∈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2098800" y="2919240"/>
                <a:ext cx="250560" cy="2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065320" y="3537000"/>
                <a:ext cx="27144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2057400" y="3841920"/>
                <a:ext cx="25092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600200" y="4495680"/>
                <a:ext cx="25092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600200" y="4800600"/>
                <a:ext cx="2300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576440" y="5065560"/>
                <a:ext cx="43956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,</m:t>
                    </m:r>
                    <m:r>
                      <m:t xml:space="preserve">≤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225520" y="5052960"/>
                <a:ext cx="66996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  <m:r>
                      <m:t xml:space="preserve">&gt;</m:t>
                    </m:r>
                    <m:r>
                      <m:t xml:space="preserve">,</m:t>
                    </m:r>
                    <m:r>
                      <m:t xml:space="preserve">≥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1590840" y="5338800"/>
                <a:ext cx="731520" cy="3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¬</m:t>
                    </m:r>
                    <m:r>
                      <m:t xml:space="preserve">,</m:t>
                    </m:r>
                    <m:r>
                      <m:t xml:space="preserve">∧</m:t>
                    </m:r>
                    <m:r>
                      <m:t xml:space="preserve">,</m:t>
                    </m:r>
                    <m:r>
                      <m:t xml:space="preserve">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2389320" y="5342040"/>
                <a:ext cx="77472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  <m:r>
                      <m:t xml:space="preserve">→</m:t>
                    </m:r>
                    <m:r>
                      <m:t xml:space="preserve">,</m:t>
                    </m:r>
                    <m:r>
                      <m:t xml:space="preserve">∃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69" name=""/>
          <p:cNvGrpSpPr/>
          <p:nvPr/>
        </p:nvGrpSpPr>
        <p:grpSpPr>
          <a:xfrm>
            <a:off x="0" y="6629400"/>
            <a:ext cx="9144000" cy="228600"/>
            <a:chOff x="0" y="6629400"/>
            <a:chExt cx="9144000" cy="228600"/>
          </a:xfrm>
        </p:grpSpPr>
        <p:sp>
          <p:nvSpPr>
            <p:cNvPr id="170" name="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TL – a brief introduction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1" name="" descr=""/>
            <p:cNvPicPr/>
            <p:nvPr/>
          </p:nvPicPr>
          <p:blipFill>
            <a:blip r:embed="rId1"/>
            <a:stretch/>
          </p:blipFill>
          <p:spPr>
            <a:xfrm>
              <a:off x="8962920" y="6629400"/>
              <a:ext cx="181080" cy="228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Syntax (2/2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ter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meric const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 vari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ursive application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currence ter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meric const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ccurrence vari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ursive application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     an event constant,      an occurrence term,     a time te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of                        to time ter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of                        to occurrence ter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ard first-order logic application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555920" y="4724280"/>
                <a:ext cx="45720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,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1523880" y="5029200"/>
                <a:ext cx="85428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3336840" y="2341440"/>
                <a:ext cx="250920" cy="2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3352680" y="3537000"/>
                <a:ext cx="25092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2962440" y="2590920"/>
                <a:ext cx="27144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3565440" y="3833640"/>
                <a:ext cx="250920" cy="2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3841920" y="2948040"/>
                <a:ext cx="2300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809880" y="4159080"/>
                <a:ext cx="2304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2968560" y="5105520"/>
                <a:ext cx="1875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5025960" y="5052960"/>
                <a:ext cx="14616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7128000" y="5064120"/>
                <a:ext cx="14580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2895480" y="5334120"/>
                <a:ext cx="1131840" cy="31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,</m:t>
                    </m:r>
                    <m:r>
                      <m:t xml:space="preserve">&lt;</m:t>
                    </m:r>
                    <m:r>
                      <m:t xml:space="preserve">,</m:t>
                    </m:r>
                    <m:r>
                      <m:t xml:space="preserve">≤</m:t>
                    </m:r>
                    <m:r>
                      <m:t xml:space="preserve">,</m:t>
                    </m:r>
                    <m:r>
                      <m:t xml:space="preserve">&gt;</m:t>
                    </m:r>
                    <m:r>
                      <m:t xml:space="preserve">,</m:t>
                    </m:r>
                    <m:r>
                      <m:t xml:space="preserve">≥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895480" y="5638680"/>
                <a:ext cx="113184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,</m:t>
                    </m:r>
                    <m:r>
                      <m:t xml:space="preserve">&lt;</m:t>
                    </m:r>
                    <m:r>
                      <m:t xml:space="preserve">,</m:t>
                    </m:r>
                    <m:r>
                      <m:t xml:space="preserve">≤</m:t>
                    </m:r>
                    <m:r>
                      <m:t xml:space="preserve">,</m:t>
                    </m:r>
                    <m:r>
                      <m:t xml:space="preserve">&gt;</m:t>
                    </m:r>
                    <m:r>
                      <m:t xml:space="preserve">,</m:t>
                    </m:r>
                    <m:r>
                      <m:t xml:space="preserve">≥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5149800" y="5907240"/>
                <a:ext cx="1484280" cy="3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¬</m:t>
                    </m:r>
                    <m:r>
                      <m:t xml:space="preserve">,</m:t>
                    </m:r>
                    <m:r>
                      <m:t xml:space="preserve">∧</m:t>
                    </m:r>
                    <m:r>
                      <m:t xml:space="preserve">,</m:t>
                    </m:r>
                    <m:r>
                      <m:t xml:space="preserve">∨</m:t>
                    </m:r>
                    <m:r>
                      <m:t xml:space="preserve">,</m:t>
                    </m:r>
                    <m:r>
                      <m:t xml:space="preserve">→</m:t>
                    </m:r>
                    <m:r>
                      <m:t xml:space="preserve">,</m:t>
                    </m:r>
                    <m:r>
                      <m:t xml:space="preserve">∀</m:t>
                    </m:r>
                    <m:r>
                      <m:t xml:space="preserve">,</m:t>
                    </m:r>
                    <m:r>
                      <m:t xml:space="preserve">∃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8" name=""/>
          <p:cNvGrpSpPr/>
          <p:nvPr/>
        </p:nvGrpSpPr>
        <p:grpSpPr>
          <a:xfrm>
            <a:off x="0" y="6629400"/>
            <a:ext cx="9144000" cy="228600"/>
            <a:chOff x="0" y="6629400"/>
            <a:chExt cx="9144000" cy="228600"/>
          </a:xfrm>
        </p:grpSpPr>
        <p:sp>
          <p:nvSpPr>
            <p:cNvPr id="189" name="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TL – a brief introduction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0" name="" descr=""/>
            <p:cNvPicPr/>
            <p:nvPr/>
          </p:nvPicPr>
          <p:blipFill>
            <a:blip r:embed="rId1"/>
            <a:stretch/>
          </p:blipFill>
          <p:spPr>
            <a:xfrm>
              <a:off x="8962920" y="6629400"/>
              <a:ext cx="181080" cy="228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Semantic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umeric constants       with      ,                     are assigned standard natural numbers semantics (Presburger arithmetic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constant event symbol in      is assigned a distinct event in an event set     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assigned the occurrence relation, i.e. a re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xioms (monotonicity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erence rules are derived from first-order log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l formed formulas have no free vari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589200" y="1996920"/>
                <a:ext cx="250920" cy="2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4495680" y="2057400"/>
                <a:ext cx="2304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4924440" y="2028960"/>
                <a:ext cx="1131840" cy="31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,</m:t>
                    </m:r>
                    <m:r>
                      <m:t xml:space="preserve">&lt;</m:t>
                    </m:r>
                    <m:r>
                      <m:t xml:space="preserve">,</m:t>
                    </m:r>
                    <m:r>
                      <m:t xml:space="preserve">≤</m:t>
                    </m:r>
                    <m:r>
                      <m:t xml:space="preserve">,</m:t>
                    </m:r>
                    <m:r>
                      <m:t xml:space="preserve">&gt;</m:t>
                    </m:r>
                    <m:r>
                      <m:t xml:space="preserve">,</m:t>
                    </m:r>
                    <m:r>
                      <m:t xml:space="preserve">≥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4348080" y="2635200"/>
                <a:ext cx="24948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1600200" y="2895480"/>
                <a:ext cx="25092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19320" y="3200400"/>
                <a:ext cx="25056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6716880" y="3200400"/>
                <a:ext cx="1147680" cy="3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×</m:t>
                    </m:r>
                    <m:sSup>
                      <m:e>
                        <m:r>
                          <m:t xml:space="preserve">Ν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×</m:t>
                    </m:r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066680" y="3962520"/>
            <a:ext cx="6477120" cy="896760"/>
          </a:xfrm>
          <a:prstGeom prst="rect">
            <a:avLst/>
          </a:prstGeom>
          <a:ln w="0">
            <a:noFill/>
          </a:ln>
        </p:spPr>
      </p:pic>
      <p:grpSp>
        <p:nvGrpSpPr>
          <p:cNvPr id="201" name=""/>
          <p:cNvGrpSpPr/>
          <p:nvPr/>
        </p:nvGrpSpPr>
        <p:grpSpPr>
          <a:xfrm>
            <a:off x="0" y="6629400"/>
            <a:ext cx="9144000" cy="228600"/>
            <a:chOff x="0" y="6629400"/>
            <a:chExt cx="9144000" cy="228600"/>
          </a:xfrm>
        </p:grpSpPr>
        <p:sp>
          <p:nvSpPr>
            <p:cNvPr id="202" name="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TL – a brief introduction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3" name="" descr=""/>
            <p:cNvPicPr/>
            <p:nvPr/>
          </p:nvPicPr>
          <p:blipFill>
            <a:blip r:embed="rId2"/>
            <a:stretch/>
          </p:blipFill>
          <p:spPr>
            <a:xfrm>
              <a:off x="8962920" y="6629400"/>
              <a:ext cx="181080" cy="228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Event Types (1/2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ase specification, we can add additional semantic to       dividing events in three possible typ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events are caused by user interaction or th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: button press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and Stop events are associated with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activities in the system that last a non null length of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an action        ,           is the start event and          the stop ev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ition Events represent changes to the state of the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a state predicate        ,              and                 represent the transition ev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pending on initial conditions, either                            or                           must hol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: transition events are still numbered based on occurrences! If                  , then in                             ,       is the first time the state predicate becomes fals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7018200" y="2001960"/>
                <a:ext cx="25092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3357720" y="2940120"/>
                <a:ext cx="140004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rPr>
                        <m:lit/>
                        <m:nor/>
                      </m:rPr>
                      <m:t xml:space="preserve">BUTTON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2743200" y="3809880"/>
                <a:ext cx="27144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3182760" y="3780000"/>
                <a:ext cx="45900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↑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5796000" y="3794040"/>
                <a:ext cx="45864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↓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3581280" y="4419720"/>
                <a:ext cx="209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3943440" y="4422600"/>
                <a:ext cx="81756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: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5227560" y="4419720"/>
                <a:ext cx="79524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: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5000760" y="4984920"/>
                <a:ext cx="153036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: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,1,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6792840" y="4992840"/>
                <a:ext cx="153036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: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,1,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7613640" y="5511960"/>
                <a:ext cx="153036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: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,1,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2397240" y="5772240"/>
                <a:ext cx="150804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: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,1,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18" name=""/>
          <p:cNvGrpSpPr/>
          <p:nvPr/>
        </p:nvGrpSpPr>
        <p:grpSpPr>
          <a:xfrm>
            <a:off x="0" y="6629400"/>
            <a:ext cx="9144000" cy="228600"/>
            <a:chOff x="0" y="6629400"/>
            <a:chExt cx="9144000" cy="228600"/>
          </a:xfrm>
        </p:grpSpPr>
        <p:sp>
          <p:nvSpPr>
            <p:cNvPr id="219" name="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TL – a brief introduction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0" name="" descr=""/>
            <p:cNvPicPr/>
            <p:nvPr/>
          </p:nvPicPr>
          <p:blipFill>
            <a:blip r:embed="rId1"/>
            <a:stretch/>
          </p:blipFill>
          <p:spPr>
            <a:xfrm>
              <a:off x="8962920" y="6629400"/>
              <a:ext cx="181080" cy="22860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4145040" y="5811840"/>
                <a:ext cx="14760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Event Types (2/2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 axioms to cover event typ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/stop axiom (for each action      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ition axioms (for each state predicate   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4579920" y="2333520"/>
                <a:ext cx="27144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447920" y="2666880"/>
            <a:ext cx="5257800" cy="478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5486400" y="3200400"/>
                <a:ext cx="209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1523880" y="3657600"/>
            <a:ext cx="5334120" cy="2284560"/>
          </a:xfrm>
          <a:prstGeom prst="rect">
            <a:avLst/>
          </a:prstGeom>
          <a:ln w="0">
            <a:noFill/>
          </a:ln>
        </p:spPr>
      </p:pic>
      <p:grpSp>
        <p:nvGrpSpPr>
          <p:cNvPr id="228" name=""/>
          <p:cNvGrpSpPr/>
          <p:nvPr/>
        </p:nvGrpSpPr>
        <p:grpSpPr>
          <a:xfrm>
            <a:off x="0" y="6629400"/>
            <a:ext cx="9144000" cy="228600"/>
            <a:chOff x="0" y="6629400"/>
            <a:chExt cx="9144000" cy="228600"/>
          </a:xfrm>
        </p:grpSpPr>
        <p:sp>
          <p:nvSpPr>
            <p:cNvPr id="229" name="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TL – a brief introduction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0" name="" descr=""/>
            <p:cNvPicPr/>
            <p:nvPr/>
          </p:nvPicPr>
          <p:blipFill>
            <a:blip r:embed="rId3"/>
            <a:stretch/>
          </p:blipFill>
          <p:spPr>
            <a:xfrm>
              <a:off x="8962920" y="6629400"/>
              <a:ext cx="181080" cy="228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More syntactic sugar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   is a variable and    is a numeric constant, then           is s.s. for    addi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can define an additional operator              associated with partial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ccurrence fun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such that                                   (i.e., it provides the time of the ith occurrency of  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rewrite the periodic task specification 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327320" y="2077920"/>
                <a:ext cx="207720" cy="2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3286080" y="2057400"/>
                <a:ext cx="187200" cy="2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6324480" y="2057400"/>
                <a:ext cx="436680" cy="2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005440" y="2622600"/>
                <a:ext cx="7477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@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3436920" y="2879640"/>
                <a:ext cx="1293840" cy="3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×</m:t>
                    </m:r>
                    <m:sSup>
                      <m:e>
                        <m:r>
                          <m:t xml:space="preserve">Ν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→</m:t>
                    </m:r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5715000" y="2895480"/>
                <a:ext cx="222264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↔</m:t>
                    </m:r>
                    <m:r>
                      <m:t xml:space="preserve">@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5386320" y="3224160"/>
                <a:ext cx="1875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40" name=""/>
          <p:cNvGrpSpPr/>
          <p:nvPr/>
        </p:nvGrpSpPr>
        <p:grpSpPr>
          <a:xfrm>
            <a:off x="0" y="6629400"/>
            <a:ext cx="9144000" cy="228600"/>
            <a:chOff x="0" y="6629400"/>
            <a:chExt cx="9144000" cy="228600"/>
          </a:xfrm>
        </p:grpSpPr>
        <p:sp>
          <p:nvSpPr>
            <p:cNvPr id="241" name="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TL – a brief introduction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2" name="" descr=""/>
            <p:cNvPicPr/>
            <p:nvPr/>
          </p:nvPicPr>
          <p:blipFill>
            <a:blip r:embed="rId1"/>
            <a:stretch/>
          </p:blipFill>
          <p:spPr>
            <a:xfrm>
              <a:off x="8962920" y="6629400"/>
              <a:ext cx="181080" cy="22860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1981080" y="4246560"/>
                <a:ext cx="300060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@</m:t>
                    </m:r>
                    <m:r>
                      <m:t xml:space="preserve">(</m:t>
                    </m:r>
                    <m:r>
                      <m:t xml:space="preserve">↓</m:t>
                    </m:r>
                    <m:r>
                      <m:t xml:space="preserve">τ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@</m:t>
                    </m:r>
                    <m:r>
                      <m:t xml:space="preserve">(</m:t>
                    </m:r>
                    <m:r>
                      <m:t xml:space="preserve">↑</m:t>
                    </m:r>
                    <m:r>
                      <m:t xml:space="preserve">τ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992240" y="3789360"/>
                <a:ext cx="320832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@</m:t>
                    </m:r>
                    <m:r>
                      <m:t xml:space="preserve">(</m:t>
                    </m:r>
                    <m:r>
                      <m:t xml:space="preserve">↑</m:t>
                    </m:r>
                    <m:r>
                      <m:t xml:space="preserve">τ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@</m:t>
                    </m:r>
                    <m:r>
                      <m:t xml:space="preserve">(</m:t>
                    </m:r>
                    <m:r>
                      <m:t xml:space="preserve">↑</m:t>
                    </m:r>
                    <m:r>
                      <m:t xml:space="preserve">τ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More syntactic sugar: state predicate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time terms          , the state predicate           (      is true in time interval         ) is s.s. f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boundary conditions are possible (definitions are trivial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x  :              occurs at 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x  :              occurs before or at 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x :              occurs before 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]  :              occurs at 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)  :              occurs after or at 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&gt; :              occurs after 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2971800" y="2057400"/>
                <a:ext cx="436680" cy="2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5586480" y="1996920"/>
                <a:ext cx="66492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x,y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6416640" y="2028960"/>
                <a:ext cx="20808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1981080" y="2286000"/>
                <a:ext cx="5191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x,y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219320" y="2666880"/>
            <a:ext cx="5105160" cy="381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1905120" y="3581280"/>
                <a:ext cx="80964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: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1905120" y="3886200"/>
                <a:ext cx="8096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: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1905120" y="4191120"/>
                <a:ext cx="8096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: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1914480" y="4495680"/>
                <a:ext cx="78912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: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914480" y="4800600"/>
                <a:ext cx="7891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: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1905120" y="5105520"/>
                <a:ext cx="7887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: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8" name=""/>
          <p:cNvGrpSpPr/>
          <p:nvPr/>
        </p:nvGrpSpPr>
        <p:grpSpPr>
          <a:xfrm>
            <a:off x="0" y="6629400"/>
            <a:ext cx="9144000" cy="228600"/>
            <a:chOff x="0" y="6629400"/>
            <a:chExt cx="9144000" cy="228600"/>
          </a:xfrm>
        </p:grpSpPr>
        <p:sp>
          <p:nvSpPr>
            <p:cNvPr id="259" name="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TL – a brief introduction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0" name="" descr=""/>
            <p:cNvPicPr/>
            <p:nvPr/>
          </p:nvPicPr>
          <p:blipFill>
            <a:blip r:embed="rId2"/>
            <a:stretch/>
          </p:blipFill>
          <p:spPr>
            <a:xfrm>
              <a:off x="8962920" y="6629400"/>
              <a:ext cx="181080" cy="228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7T07:46:28Z</dcterms:created>
  <dc:creator>Enzhou Wang</dc:creator>
  <dc:description/>
  <dc:language>en-US</dc:language>
  <cp:lastModifiedBy>Rodolfo Pellizzoni</cp:lastModifiedBy>
  <dcterms:modified xsi:type="dcterms:W3CDTF">2006-07-24T20:02:14Z</dcterms:modified>
  <cp:revision>130</cp:revision>
  <dc:subject/>
  <dc:title>An Extensible Choices System Interface </dc:title>
</cp:coreProperties>
</file>